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9195-ED1E-488A-9613-20D143CF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EC18-9783-43F0-A25E-5575A63D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501C-D093-4348-814A-321C77E4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2DE1-3602-402A-951E-925DC979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3027-4558-4776-B302-0A802F8F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F471-4248-4D82-91BF-60267965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E088-894A-4501-A341-70DD446F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0965-2D7B-4AD9-808F-B25558E8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B1C5-E1A9-4D87-872A-8C6544BA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1E9E-9B6C-415F-9665-1516540D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829E-EEB8-46B4-B1C4-7BDA2CEA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4B09-D889-4E6E-AB26-76FF25FB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D3E3-6B0B-48B1-816B-0D81734E7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Baptism: question to con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riends in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ll you promise to maintain a lif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f worship and teach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tness and serv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o that N</a:t>
            </a:r>
            <a:r>
              <a:rPr b="0" i="1" lang="en-A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may gr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maturity in Chri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God’s help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will live out our bapt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a loving community in Chri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urturing one another in fait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pholding one another in pray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encouraging one an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servi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ntil Christ c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3:25:44Z</dcterms:created>
  <dc:creator>Anon Anon</dc:creator>
  <dc:description/>
  <dc:language>en-US</dc:language>
  <cp:lastModifiedBy>Anon Anon</cp:lastModifiedBy>
  <dcterms:modified xsi:type="dcterms:W3CDTF">2005-08-09T05:36:22Z</dcterms:modified>
  <cp:revision>10</cp:revision>
  <dc:subject/>
  <dc:title>PowerPoint Presentation</dc:title>
</cp:coreProperties>
</file>